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5CB0-E80E-4ADD-90B4-2C34143C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6C9-C49D-44D6-AE02-B99FFE1A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CF5-7492-44FB-933D-6B0C8D38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A04-ADC4-4319-A9A8-2DCCEC29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4076-79BE-465E-A066-0487936E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6EA1-B902-4D41-A50E-B0ED5A5F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E4BA-69C5-41AD-AE47-3F7B9BF7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25AA-1A28-4908-AA28-19C69C73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AAF3-C2AE-458C-A706-2046A9E8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C96C-E62A-4E76-A0A8-F75A7EF5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B8B3-0445-4D5F-BFFD-52632EA5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274-2B12-45F0-9626-07521CCE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10CC-36C5-43D8-81A0-FD1B6A0E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DB76-34E3-4FCC-A0EB-AD837A9A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D3B5-985B-49AE-AA53-49FDFEED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5603-C6D7-4CE3-B46F-1C8F46EA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E816-DEDF-4224-B4F8-74039A5A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12402-B37F-49BD-8CDB-4F317CFD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A6972-4AD8-4B84-8B1E-109DFB94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70B35-DC6B-469E-961E-A5363DB7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D2B49-A5DF-44FB-9360-997CF255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CC41D-279E-41C6-A526-4E5EEF3D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D85C-C3B3-4A38-9EE9-87A45BA0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6C373-5F7D-43D9-B01A-E0B62994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D8D82-7735-4E3F-969C-F3EACBD2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5FBB-6162-4AA1-BB3C-112AFA7A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782AE-701D-4E91-B1EA-A20C8894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95CD5-5E15-4A07-9E41-4207D849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07639-E50C-4DF0-BAD1-26538246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CF702-105D-44DE-BD13-FD160FB3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9B9F5-FFE6-4BED-A1E7-2F7A5CDB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5266D-42E3-48A3-AC36-BD61B825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D9C1F-6880-4F88-9A1C-0201C210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53C-273E-4D01-8B6D-35B8FB56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01951-0A57-4938-9E56-E2209699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9D115-FC03-442A-88B9-C69D3218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767D3-D996-430C-AFD0-E4D0638E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D1591-EDF9-473E-A401-92D3D774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8B22C-FDDC-4FE6-AB1C-557E4029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E27BA-4DCB-4677-B7A6-27EE4BED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2FA95-D776-4BC3-8938-38584049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BE50F-29D7-4041-A742-834F4108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57256-EAB9-4778-98EE-FF64A1F3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92EB9-9D71-41D9-AD2C-18E600B5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613-40BB-443A-94F8-7107453E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02623-8139-4114-B100-344DD57F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7F4F8-53F8-49D3-BFD1-23D9699A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8E3F0-3CBE-47AF-BF1F-258BDD38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B5ECF-3F7E-4BE0-921D-CDE7DC30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DDC68-2D44-40D7-B855-2734014C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3360D-E4B6-4C0F-B739-B4EBDCF1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1A332-2D02-4326-BA67-CA177F53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9C321-D4C4-4B6E-975D-AAEBDBB2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31EA8-9AEF-4259-AFC9-CA5C6B4A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307DF-215C-4E86-BD18-38B38BD8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4FE-0628-4E15-AD40-B7267A5D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D4F4D-5E1D-4CA5-8551-1C7085DB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6D297-65A1-4636-878A-48C8B9D1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01BF6-F003-41D4-AA7E-ACBD1FFA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E74CD-FBD7-4449-8006-80CE8D33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84893-6779-40C6-B62A-41163511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1F72E-19FF-49CE-8073-50AD6767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2D6ED-C9D3-49E5-88C0-B7CD926F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ED208-B4C1-4E30-A2B8-F38AF6E8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F9F81-11A3-4592-A7A0-955B90AC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35A1D-2E7B-493A-A793-1DB9DA6A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A1C-EE2B-401E-882E-B6EA606F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2F809-CD0B-457D-BCF9-E57B0838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C675B-9973-48DC-9272-10736F8F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D81F0-6EB4-4450-B17E-9F7E2D68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93D48-FFD5-4307-9832-BBE4268A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FE27C-A05D-41C5-9F6E-BA79E47F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CF254-1D80-4A84-BFA6-E2E8870D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FA470-EE3C-4CB7-860E-2F379DA6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D1089-B6BA-4965-9669-F7A83AB7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746E3-2C8B-4682-8921-218569E7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DAF33-3A2E-4DCB-B894-06F29D88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E1B-EE47-4103-8A69-C1AE6BCE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73BCC-B879-4F5C-AEA9-D51B304D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A112A-ED3F-4104-BC6C-0CAC8EC5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388C4-1159-46AF-8A4D-0C51A8BD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56908-6B37-4BBA-A60C-F403DAF0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DC441-640D-49B4-AC11-DC35D5F8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0AC6C-5642-4AA3-8CF3-701AE918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857DB-FB06-4038-A0B4-7CD82E02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15A88-2EFD-43A1-BB5D-3FB993BB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56D87-0C92-4C80-9D13-BED2BE33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6286C-C6EE-4C42-81FB-7BF70A43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8CA-7B28-49CC-96E1-22EF5D80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6B299-1775-4F4C-93C3-08219F44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59C0D-4816-4A09-BE7E-F631BD4F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15B87-2CAE-4909-8A13-FB342922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F2B70-86FD-4C80-BEE2-6DB68199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9A490-C0A2-47F5-9587-E5107A48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D6036-A311-4938-8E91-9D8EA0CB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1E4CD-15BF-404A-904C-E436CC8E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8996-C1A5-41F8-BB1A-C27BCDCED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D3D3-2468-4B17-A84B-15C73FEAA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10D7-EA43-4327-8DD9-2ABEC0BFD71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7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9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7D79-DC7E-43CE-BD8F-C0F26B24006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4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7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DD71-4398-454E-B7EC-7E22E8D1EA7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2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2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A8E5-B702-40DC-99A9-F9109FCC4B6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0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8D88-01A5-4A35-9D11-A1A535DCE1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4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8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F1EC-F349-438E-8DC4-5042AEAC91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haas.html" TargetMode="External"/><Relationship Id="rId4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6095880" y="5257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759440" y="4913280"/>
            <a:ext cx="14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in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 11,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#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676520" y="914400"/>
            <a:ext cx="487656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z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4724280" y="3727440"/>
            <a:ext cx="2689200" cy="26892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65530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914400" y="510552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nvented b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duard Ha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52280" y="228600"/>
            <a:ext cx="87631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 Black"/>
              </a:rPr>
              <a:t>Hip Hop,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6/1/2011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Arial Black"/>
                <a:hlinkClick r:id="rId3"/>
              </a:rPr>
              <a:t>www.freeplaymusic.com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6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Haas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263196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Haas"/>
          <p:cNvPicPr/>
          <p:nvPr/>
        </p:nvPicPr>
        <p:blipFill>
          <a:blip r:embed="rId2"/>
          <a:stretch/>
        </p:blipFill>
        <p:spPr>
          <a:xfrm>
            <a:off x="228600" y="3048120"/>
            <a:ext cx="2209680" cy="38098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3657600" y="3581280"/>
            <a:ext cx="396252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melson MIT, Progra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 Black"/>
              </a:rPr>
              <a:t>Pez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5/16/11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 Black"/>
                <a:hlinkClick r:id="rId3"/>
              </a:rPr>
              <a:t>http://web.mit.edu/invent/iow/haa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337 -0.12694 C 0.21649 -0.11746 0.16979 -0.10798 0.14913 -0.08463 C 0.12847 -0.06128 0.16094 0.00901 0.13958 0.01248 C 0.11823 0.01595 0.04288 -0.06405 0.02049 -0.06359 C -0.00191 -0.06313 0.00816 0.00415 0.00469 0.01479 C 0.00122 0.02543 0.00018 0.00207 1.94444E-006 -5.14451E-006 E">
                                      <p:cBhvr>
                                        <p:cTn id="15" dur="2000" fill="hold"/>
                                        <p:tgtEl>
                                          <p:spTgt spid="6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vention: Pez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Pez was originally made for ad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fter it came to the United States, pez became more for k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edf8"/>
                </a:solidFill>
                <a:latin typeface="Arial"/>
              </a:rPr>
              <a:t>Pez was originally mint flavo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edf8"/>
                </a:solidFill>
                <a:latin typeface="Arial"/>
              </a:rPr>
              <a:t>People in Austria would use it to help quit smo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11f5"/>
                </a:solidFill>
                <a:latin typeface="Arial"/>
              </a:rPr>
              <a:t>Pez, is short for. “pfefferminze” which is German for “peppermin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ef8"/>
                </a:solidFill>
                <a:latin typeface="Arial"/>
              </a:rPr>
              <a:t>The package had a cartoon characters head at the top of the package so it would appeal to k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10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10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b96a"/>
                </a:solidFill>
                <a:latin typeface="Arial Black"/>
              </a:rPr>
              <a:t>Inventor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0" lang="en-US" sz="4400" spc="-1" strike="noStrike">
                <a:solidFill>
                  <a:srgbClr val="47b96a"/>
                </a:solidFill>
                <a:latin typeface="Arial Black"/>
              </a:rPr>
              <a:t> Eduard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aa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1b"/>
                </a:solidFill>
                <a:latin typeface="Arial Black"/>
              </a:rPr>
              <a:t>Eduard</a:t>
            </a:r>
            <a:r>
              <a:rPr b="0" lang="en-US" sz="32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b34cc"/>
                </a:solidFill>
                <a:latin typeface="Arial Black"/>
              </a:rPr>
              <a:t>was</a:t>
            </a:r>
            <a:r>
              <a:rPr b="0" lang="en-US" sz="32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26e41c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art</a:t>
            </a:r>
            <a:r>
              <a:rPr b="0" lang="en-US" sz="32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f</a:t>
            </a:r>
            <a:r>
              <a:rPr b="0" lang="en-US" sz="32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b2fd1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ea2a16"/>
                </a:solidFill>
                <a:latin typeface="Arial Black"/>
              </a:rPr>
              <a:t>enterprising</a:t>
            </a:r>
            <a:r>
              <a:rPr b="0" lang="en-US" sz="32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29ace"/>
                </a:solidFill>
                <a:latin typeface="Arial Black"/>
              </a:rPr>
              <a:t>company</a:t>
            </a:r>
            <a:r>
              <a:rPr b="0" lang="en-US" sz="3200" spc="-1" strike="noStrike">
                <a:solidFill>
                  <a:srgbClr val="3768c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d729"/>
                </a:solidFill>
                <a:latin typeface="Arial Black"/>
              </a:rPr>
              <a:t>His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9933"/>
                </a:solidFill>
                <a:latin typeface="Arial Black"/>
              </a:rPr>
              <a:t>grandpa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was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af6f0"/>
                </a:solidFill>
                <a:latin typeface="Arial Black"/>
              </a:rPr>
              <a:t>a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 Black"/>
              </a:rPr>
              <a:t>doctor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99ff"/>
                </a:solidFill>
                <a:latin typeface="Arial Black"/>
              </a:rPr>
              <a:t>who </a:t>
            </a:r>
            <a:r>
              <a:rPr b="0" lang="en-US" sz="2800" spc="-1" strike="noStrike">
                <a:solidFill>
                  <a:srgbClr val="60a06c"/>
                </a:solidFill>
                <a:latin typeface="Arial Black"/>
              </a:rPr>
              <a:t>created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af273e"/>
                </a:solidFill>
                <a:latin typeface="Arial Black"/>
              </a:rPr>
              <a:t>a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a932ce"/>
                </a:solidFill>
                <a:latin typeface="Arial Black"/>
              </a:rPr>
              <a:t>new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c2673e"/>
                </a:solidFill>
                <a:latin typeface="Arial Black"/>
              </a:rPr>
              <a:t>type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b12ee"/>
                </a:solidFill>
                <a:latin typeface="Arial Black"/>
              </a:rPr>
              <a:t>of </a:t>
            </a:r>
            <a:r>
              <a:rPr b="0" lang="en-US" sz="2800" spc="-1" strike="noStrike">
                <a:solidFill>
                  <a:srgbClr val="66ccff"/>
                </a:solidFill>
                <a:latin typeface="Arial Black"/>
              </a:rPr>
              <a:t>baking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 Black"/>
              </a:rPr>
              <a:t>soda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ich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d7ec14"/>
                </a:solidFill>
                <a:latin typeface="Arial Black"/>
              </a:rPr>
              <a:t>helped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014a"/>
                </a:solidFill>
                <a:latin typeface="Arial Black"/>
              </a:rPr>
              <a:t>Eduard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invent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5588ab"/>
                </a:solidFill>
                <a:latin typeface="Arial Black"/>
              </a:rPr>
              <a:t>Pez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Eduard </a:t>
            </a:r>
            <a:r>
              <a:rPr b="0" lang="en-US" sz="2800" spc="-1" strike="noStrike">
                <a:solidFill>
                  <a:srgbClr val="ff8b17"/>
                </a:solidFill>
                <a:latin typeface="Arial Black"/>
              </a:rPr>
              <a:t>was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2a7cd6"/>
                </a:solidFill>
                <a:latin typeface="Arial Black"/>
              </a:rPr>
              <a:t>born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in </a:t>
            </a:r>
            <a:r>
              <a:rPr b="0" lang="en-US" sz="2800" spc="-1" strike="noStrike">
                <a:solidFill>
                  <a:srgbClr val="a5ae52"/>
                </a:solidFill>
                <a:latin typeface="Arial Black"/>
              </a:rPr>
              <a:t>Austria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is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Arial Black"/>
              </a:rPr>
              <a:t>son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8080"/>
                </a:solidFill>
                <a:latin typeface="Arial Black"/>
              </a:rPr>
              <a:t>also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7ccd33"/>
                </a:solidFill>
                <a:latin typeface="Arial Black"/>
              </a:rPr>
              <a:t>briefly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ttended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medical </a:t>
            </a: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school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99cc"/>
                </a:solidFill>
                <a:latin typeface="Arial Black"/>
              </a:rPr>
              <a:t>like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 Black"/>
              </a:rPr>
              <a:t>his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grandfather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49:48Z</dcterms:created>
  <dc:creator>install</dc:creator>
  <dc:description/>
  <dc:language>en-US</dc:language>
  <cp:lastModifiedBy>install</cp:lastModifiedBy>
  <dcterms:modified xsi:type="dcterms:W3CDTF">2011-06-01T17:35:47Z</dcterms:modified>
  <cp:revision>8</cp:revision>
  <dc:subject/>
  <dc:title>Slide 1</dc:title>
</cp:coreProperties>
</file>